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26.png" ContentType="image/png"/>
  <Override PartName="/ppt/media/image22.png" ContentType="image/png"/>
  <Override PartName="/ppt/media/image24.jpeg" ContentType="image/jpeg"/>
  <Override PartName="/ppt/media/image21.jpeg" ContentType="image/jpeg"/>
  <Override PartName="/ppt/media/image20.jpeg" ContentType="image/jpeg"/>
  <Override PartName="/ppt/media/image19.png" ContentType="image/png"/>
  <Override PartName="/ppt/media/image18.jpeg" ContentType="image/jpeg"/>
  <Override PartName="/ppt/media/image15.png" ContentType="image/png"/>
  <Override PartName="/ppt/media/image12.jpeg" ContentType="image/jpeg"/>
  <Override PartName="/ppt/media/image23.png" ContentType="image/png"/>
  <Override PartName="/ppt/media/image13.jpeg" ContentType="image/jpeg"/>
  <Override PartName="/ppt/media/image9.png" ContentType="image/png"/>
  <Override PartName="/ppt/media/image5.png" ContentType="image/png"/>
  <Override PartName="/ppt/media/image10.jpeg" ContentType="image/jpeg"/>
  <Override PartName="/ppt/media/image8.jpeg" ContentType="image/jpeg"/>
  <Override PartName="/ppt/media/image29.jpeg" ContentType="image/jpeg"/>
  <Override PartName="/ppt/media/image30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33.png" ContentType="image/png"/>
  <Override PartName="/ppt/media/image14.jpeg" ContentType="image/jpeg"/>
  <Override PartName="/ppt/media/image38.jpeg" ContentType="image/jpeg"/>
  <Override PartName="/ppt/media/image28.png" ContentType="image/png"/>
  <Override PartName="/ppt/media/image7.jpeg" ContentType="image/jpeg"/>
  <Override PartName="/ppt/media/image34.jpeg" ContentType="image/jpeg"/>
  <Override PartName="/ppt/media/image37.png" ContentType="image/png"/>
  <Override PartName="/ppt/media/image11.png" ContentType="image/png"/>
  <Override PartName="/ppt/media/image6.png" ContentType="image/png"/>
  <Override PartName="/ppt/media/image25.jpeg" ContentType="image/jpeg"/>
  <Override PartName="/ppt/media/image32.png" ContentType="image/png"/>
  <Override PartName="/ppt/media/image35.jpeg" ContentType="image/jpeg"/>
  <Override PartName="/ppt/media/image1.jpeg" ContentType="image/jpeg"/>
  <Override PartName="/ppt/media/image36.jpeg" ContentType="image/jpeg"/>
  <Override PartName="/ppt/media/image2.jpeg" ContentType="image/jpeg"/>
  <Override PartName="/ppt/media/image16.jpeg" ContentType="image/jpeg"/>
  <Override PartName="/ppt/media/image1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82979a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5bad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5bad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6360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B1F7C5F6-51C2-47D2-8E31-4DFE7EFBD6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spotsylvania.k12.va.us/bms/tr/Biomes/    Excellent site with lin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D8F0-EB68-46EA-A61E-1AF89DED5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360" y="-47160"/>
            <a:ext cx="7467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5ba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52120" y="837720"/>
            <a:ext cx="72392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52120" y="3663720"/>
            <a:ext cx="72392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8968-7003-47F8-9EA0-36EE2F0E9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-47160"/>
            <a:ext cx="7467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5ba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52120" y="837720"/>
            <a:ext cx="3532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61920" y="837720"/>
            <a:ext cx="3532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52120" y="3663720"/>
            <a:ext cx="3532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61920" y="3663720"/>
            <a:ext cx="3532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43DD-8DF6-434A-A5EE-F64697158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360" y="-47160"/>
            <a:ext cx="7467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5ba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52120" y="837720"/>
            <a:ext cx="2330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99760" y="837720"/>
            <a:ext cx="2330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47400" y="837720"/>
            <a:ext cx="2330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52120" y="3663720"/>
            <a:ext cx="2330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99760" y="3663720"/>
            <a:ext cx="2330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47400" y="3663720"/>
            <a:ext cx="2330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9BF9-2996-4785-AD22-994DA5C7B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F34DF-166D-45A6-9BC3-8B49CABB7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60" y="-47160"/>
            <a:ext cx="7467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5ba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752120" y="837720"/>
            <a:ext cx="723924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A78FD-7C7C-4F97-A62F-64020B222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-47160"/>
            <a:ext cx="7467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5ba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52120" y="837720"/>
            <a:ext cx="723924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301B1-D00D-4E05-B3DB-1A07EE268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360" y="-47160"/>
            <a:ext cx="7467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5bad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52120" y="837720"/>
            <a:ext cx="35326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461920" y="837720"/>
            <a:ext cx="35326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9EBFF-43C6-4210-9728-ADEAC7682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-47160"/>
            <a:ext cx="7467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5b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12FB6-65A8-4B25-B924-970C519EC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74674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E0B5C-4857-43C4-B0D1-EB965BB67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-47160"/>
            <a:ext cx="7467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5ba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52120" y="837720"/>
            <a:ext cx="3532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461920" y="837720"/>
            <a:ext cx="35326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752120" y="3663720"/>
            <a:ext cx="3532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AA9EB-AADC-4C73-B65A-95904F556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360" y="-47160"/>
            <a:ext cx="7467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5ba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52120" y="837720"/>
            <a:ext cx="723924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28C5-355C-419B-9A6C-25D41043D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-47160"/>
            <a:ext cx="7467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5bad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52120" y="837720"/>
            <a:ext cx="35326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461920" y="837720"/>
            <a:ext cx="3532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461920" y="3663720"/>
            <a:ext cx="3532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CB96D-7726-4089-AB1F-5EDE1B14E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-47160"/>
            <a:ext cx="7467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5bad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52120" y="837720"/>
            <a:ext cx="3532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61920" y="837720"/>
            <a:ext cx="3532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752120" y="3663720"/>
            <a:ext cx="72392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FBBBE-3C49-49D3-B18A-413078F5B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360" y="-47160"/>
            <a:ext cx="7467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5bad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52120" y="837720"/>
            <a:ext cx="72392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752120" y="3663720"/>
            <a:ext cx="72392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BCBB4-ED48-483A-AC3A-93B6512C5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-360" y="-47160"/>
            <a:ext cx="7467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5bad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52120" y="837720"/>
            <a:ext cx="3532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461920" y="837720"/>
            <a:ext cx="3532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752120" y="3663720"/>
            <a:ext cx="3532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461920" y="3663720"/>
            <a:ext cx="3532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A2DF6-5270-4C67-92C3-A9A998E31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-47160"/>
            <a:ext cx="7467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5ba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52120" y="837720"/>
            <a:ext cx="2330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199760" y="837720"/>
            <a:ext cx="2330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47400" y="837720"/>
            <a:ext cx="2330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752120" y="3663720"/>
            <a:ext cx="2330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199760" y="3663720"/>
            <a:ext cx="2330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47400" y="3663720"/>
            <a:ext cx="2330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F9686-0D68-4439-A0D5-A0C9B839D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-47160"/>
            <a:ext cx="7467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5ba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52120" y="837720"/>
            <a:ext cx="723924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74CF-DD3B-4BA5-882F-C7302B11D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360" y="-47160"/>
            <a:ext cx="7467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5ba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52120" y="837720"/>
            <a:ext cx="35326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61920" y="837720"/>
            <a:ext cx="35326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536E-8CF3-40CA-A9AC-2A6EC7FCB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-47160"/>
            <a:ext cx="7467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5b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778B-C4E3-4983-96F5-4B9608C9A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74674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3A93-2DF5-459E-88A6-EC1BEFC9F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360" y="-47160"/>
            <a:ext cx="7467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5ba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52120" y="837720"/>
            <a:ext cx="3532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61920" y="837720"/>
            <a:ext cx="35326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52120" y="3663720"/>
            <a:ext cx="3532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8EA1-2F89-4DED-A27D-A4155AA0E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360" y="-47160"/>
            <a:ext cx="7467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5ba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52120" y="837720"/>
            <a:ext cx="35326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61920" y="837720"/>
            <a:ext cx="3532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61920" y="3663720"/>
            <a:ext cx="3532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A990-C6EA-4F8E-8B76-263FF37BC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-47160"/>
            <a:ext cx="7467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5ba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52120" y="837720"/>
            <a:ext cx="3532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61920" y="837720"/>
            <a:ext cx="3532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52120" y="3663720"/>
            <a:ext cx="72392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3E9D-14D0-4EAC-865E-EA852F2B9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5ba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5ba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52120" y="837720"/>
            <a:ext cx="723924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2979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2979a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2979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2979a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82979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2979a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2979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2979a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82979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2979a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82979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2979a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82979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2979a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2979a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2979a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55272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2979a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2979a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2979a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07265-0003-4250-A9BD-67BB546E4208}" type="slidenum">
              <a:rPr b="0" lang="en-US" sz="1400" spc="-1" strike="noStrike">
                <a:solidFill>
                  <a:srgbClr val="82979a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71240" y="3352320"/>
            <a:ext cx="6172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5ba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5bad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2979a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2979a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55272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2979a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2979a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23888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2979a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166BA-7F06-46CF-BF52-07D9E15018D3}" type="slidenum">
              <a:rPr b="0" lang="en-US" sz="1400" spc="-1" strike="noStrike">
                <a:solidFill>
                  <a:srgbClr val="82979a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2979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2979a"/>
              </a:solidFill>
              <a:latin typeface="Arial"/>
            </a:endParaRPr>
          </a:p>
          <a:p>
            <a:pPr lvl="1" marL="457200" algn="ctr">
              <a:spcBef>
                <a:spcPts val="700"/>
              </a:spcBef>
              <a:buClr>
                <a:srgbClr val="82979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2979a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82979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82979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2979a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82979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82979a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2979a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82979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82979a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2979a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82979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82979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2979a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82979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82979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2979a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82979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1240" y="3352320"/>
            <a:ext cx="6172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5bad"/>
                </a:solidFill>
                <a:latin typeface="Arial"/>
              </a:rPr>
              <a:t>Biomes</a:t>
            </a:r>
            <a:endParaRPr b="0" lang="en-US" sz="4400" spc="-1" strike="noStrike">
              <a:solidFill>
                <a:srgbClr val="ff5ba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904760" y="4280040"/>
            <a:ext cx="5638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2979a"/>
                </a:solidFill>
                <a:latin typeface="Arial"/>
              </a:rPr>
              <a:t>Page 157-162</a:t>
            </a:r>
            <a:endParaRPr b="0" lang="en-US" sz="3200" spc="-1" strike="noStrike">
              <a:solidFill>
                <a:srgbClr val="8297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-360" y="-47160"/>
            <a:ext cx="7467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5bad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371600" y="990720"/>
            <a:ext cx="762012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5bad"/>
                </a:solidFill>
                <a:latin typeface="Arial"/>
              </a:rPr>
              <a:t>Land Biomes – Six Major</a:t>
            </a:r>
            <a:endParaRPr b="0" lang="en-US" sz="3600" spc="-1" strike="noStrike">
              <a:solidFill>
                <a:srgbClr val="ff5bad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752120" y="837720"/>
            <a:ext cx="723924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82979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2979a"/>
                </a:solidFill>
                <a:latin typeface="Arial"/>
              </a:rPr>
              <a:t>Tundra</a:t>
            </a: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82979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2979a"/>
                </a:solidFill>
                <a:latin typeface="Arial"/>
              </a:rPr>
              <a:t>Deciduous forest</a:t>
            </a: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82979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2979a"/>
                </a:solidFill>
                <a:latin typeface="Arial"/>
              </a:rPr>
              <a:t>Boreal forest</a:t>
            </a: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82979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2979a"/>
                </a:solidFill>
                <a:latin typeface="Arial"/>
              </a:rPr>
              <a:t>Rainforest</a:t>
            </a: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82979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2979a"/>
                </a:solidFill>
                <a:latin typeface="Arial"/>
              </a:rPr>
              <a:t>Grassland</a:t>
            </a: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82979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2979a"/>
                </a:solidFill>
                <a:latin typeface="Arial"/>
              </a:rPr>
              <a:t>Desert</a:t>
            </a: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2979a"/>
                </a:solidFill>
                <a:latin typeface="Arial"/>
              </a:rPr>
              <a:t>**See Handout</a:t>
            </a: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2979a"/>
                </a:solidFill>
                <a:latin typeface="Arial"/>
              </a:rPr>
              <a:t>**Calculations - HW</a:t>
            </a: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5bad"/>
                </a:solidFill>
                <a:latin typeface="Arial"/>
              </a:rPr>
              <a:t>Tundra – page 161</a:t>
            </a:r>
            <a:endParaRPr b="0" lang="en-US" sz="3600" spc="-1" strike="noStrike">
              <a:solidFill>
                <a:srgbClr val="ff5bad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676520" y="76176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2979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2979a"/>
                </a:solidFill>
                <a:latin typeface="Arial"/>
              </a:rPr>
              <a:t>Polar grassland</a:t>
            </a: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2979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2979a"/>
                </a:solidFill>
                <a:latin typeface="Arial"/>
              </a:rPr>
              <a:t>Treeless plains cold all year, very little precipitation</a:t>
            </a: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2979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2979a"/>
                </a:solidFill>
                <a:latin typeface="Arial"/>
              </a:rPr>
              <a:t>Plants grow close to ground; thick, waxy coated leaves</a:t>
            </a: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2979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2979a"/>
                </a:solidFill>
                <a:latin typeface="Arial"/>
              </a:rPr>
              <a:t>Poor soils; decomposition is slow</a:t>
            </a: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2979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2979a"/>
                </a:solidFill>
                <a:latin typeface="Arial"/>
              </a:rPr>
              <a:t>Alpine tundra – mountaintops</a:t>
            </a: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2979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82979a"/>
                </a:solidFill>
                <a:uFillTx/>
                <a:latin typeface="Arial"/>
              </a:rPr>
              <a:t>Permafrost</a:t>
            </a:r>
            <a:r>
              <a:rPr b="1" lang="en-US" sz="3200" spc="-1" strike="noStrike">
                <a:solidFill>
                  <a:srgbClr val="82979a"/>
                </a:solidFill>
                <a:latin typeface="Arial"/>
              </a:rPr>
              <a:t> – </a:t>
            </a: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2979a"/>
                </a:solidFill>
                <a:latin typeface="Arial"/>
              </a:rPr>
              <a:t>permanently frozen</a:t>
            </a:r>
            <a:endParaRPr b="1" lang="en-US" sz="3000" spc="-1" strike="noStrike">
              <a:solidFill>
                <a:srgbClr val="82979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2979a"/>
                </a:solidFill>
                <a:latin typeface="Arial"/>
              </a:rPr>
              <a:t>layer of soil</a:t>
            </a:r>
            <a:endParaRPr b="1" lang="en-US" sz="3000" spc="-1" strike="noStrike">
              <a:solidFill>
                <a:srgbClr val="82979a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334120" y="4314960"/>
            <a:ext cx="3809880" cy="25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5bad"/>
                </a:solidFill>
                <a:latin typeface="Arial"/>
              </a:rPr>
              <a:t>Tundra Biome Map</a:t>
            </a:r>
            <a:endParaRPr b="0" lang="en-US" sz="4000" spc="-1" strike="noStrike">
              <a:solidFill>
                <a:srgbClr val="ff5bad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1981080" y="1371600"/>
            <a:ext cx="6242040" cy="37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5bad"/>
                </a:solidFill>
                <a:latin typeface="Arial"/>
              </a:rPr>
              <a:t>Deciduous Forest </a:t>
            </a:r>
            <a:r>
              <a:rPr b="0" lang="en-US" sz="3200" spc="-1" strike="noStrike">
                <a:solidFill>
                  <a:srgbClr val="ff5bad"/>
                </a:solidFill>
                <a:latin typeface="Arial"/>
              </a:rPr>
              <a:t>(PA biome) – p. 159</a:t>
            </a:r>
            <a:endParaRPr b="0" lang="en-US" sz="3200" spc="-1" strike="noStrike">
              <a:solidFill>
                <a:srgbClr val="ff5bad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52120" y="837720"/>
            <a:ext cx="723924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2979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2979a"/>
                </a:solidFill>
                <a:latin typeface="Arial"/>
              </a:rPr>
              <a:t>Moist with long, warm summers and cold winters (temperate – moderate climate)</a:t>
            </a: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979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2979a"/>
                </a:solidFill>
                <a:latin typeface="Arial"/>
              </a:rPr>
              <a:t>Dominant vegetation – deciduous broadleaf trees (shed leaves)</a:t>
            </a: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5105520" y="380988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5bad"/>
                </a:solidFill>
                <a:latin typeface="Arial"/>
              </a:rPr>
              <a:t>Deciduous Forest Biome Map</a:t>
            </a:r>
            <a:endParaRPr b="0" lang="en-US" sz="3600" spc="-1" strike="noStrike">
              <a:solidFill>
                <a:srgbClr val="ff5bad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1905120" y="1295280"/>
            <a:ext cx="6089400" cy="37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5bad"/>
                </a:solidFill>
                <a:latin typeface="Arial"/>
              </a:rPr>
              <a:t>Boreal Forest – </a:t>
            </a:r>
            <a:r>
              <a:rPr b="0" lang="en-US" sz="3200" spc="-1" strike="noStrike">
                <a:solidFill>
                  <a:srgbClr val="ff5bad"/>
                </a:solidFill>
                <a:latin typeface="Arial"/>
              </a:rPr>
              <a:t>page 159</a:t>
            </a:r>
            <a:endParaRPr b="0" lang="en-US" sz="3200" spc="-1" strike="noStrike">
              <a:solidFill>
                <a:srgbClr val="ff5bad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676520" y="685800"/>
            <a:ext cx="72388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2979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2979a"/>
                </a:solidFill>
                <a:latin typeface="Arial"/>
              </a:rPr>
              <a:t>Also called Taiga – predominant vegetation is coniferous (cone bearing with waxy, needle like leaves) trees</a:t>
            </a: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979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2979a"/>
                </a:solidFill>
                <a:latin typeface="Arial"/>
              </a:rPr>
              <a:t>Long, cold, dry winters; poor soil</a:t>
            </a: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979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2979a"/>
                </a:solidFill>
                <a:latin typeface="Arial"/>
              </a:rPr>
              <a:t>Temperate coniferous forest found mid-latitude coastal areas</a:t>
            </a: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3886200" y="4425840"/>
            <a:ext cx="3610080" cy="24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5bad"/>
                </a:solidFill>
                <a:latin typeface="Arial"/>
              </a:rPr>
              <a:t>Boreal Forest Biome Map</a:t>
            </a:r>
            <a:endParaRPr b="0" lang="en-US" sz="3600" spc="-1" strike="noStrike">
              <a:solidFill>
                <a:srgbClr val="ff5bad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1905120" y="1066680"/>
            <a:ext cx="6095880" cy="37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5bad"/>
                </a:solidFill>
                <a:latin typeface="Arial"/>
              </a:rPr>
              <a:t>Rainforest – page 159</a:t>
            </a:r>
            <a:endParaRPr b="0" lang="en-US" sz="3600" spc="-1" strike="noStrike">
              <a:solidFill>
                <a:srgbClr val="ff5bad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828440" y="762120"/>
            <a:ext cx="7086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2979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2979a"/>
                </a:solidFill>
                <a:latin typeface="Arial"/>
              </a:rPr>
              <a:t>Heavy rainfall, high humidity, warm all year; poor soil (nutrients washed away by heavy rains)</a:t>
            </a:r>
            <a:endParaRPr b="1" lang="en-US" sz="3000" spc="-1" strike="noStrike">
              <a:solidFill>
                <a:srgbClr val="82979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82979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2979a"/>
                </a:solidFill>
                <a:latin typeface="Arial"/>
              </a:rPr>
              <a:t>Tropical rainforests in equatorial regions (largest in S. America)</a:t>
            </a:r>
            <a:endParaRPr b="1" lang="en-US" sz="3000" spc="-1" strike="noStrike">
              <a:solidFill>
                <a:srgbClr val="82979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82979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2979a"/>
                </a:solidFill>
                <a:latin typeface="Arial"/>
              </a:rPr>
              <a:t>Temperate rainforests in NW</a:t>
            </a:r>
            <a:endParaRPr b="1" lang="en-US" sz="3000" spc="-1" strike="noStrike">
              <a:solidFill>
                <a:srgbClr val="82979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82979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2979a"/>
                </a:solidFill>
                <a:latin typeface="Arial"/>
              </a:rPr>
              <a:t>80% of Earth’s biodiversity</a:t>
            </a:r>
            <a:endParaRPr b="1" lang="en-US" sz="3000" spc="-1" strike="noStrike">
              <a:solidFill>
                <a:srgbClr val="82979a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152280" y="4267080"/>
            <a:ext cx="3733920" cy="24289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5410080" y="4343400"/>
            <a:ext cx="3524400" cy="23493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228600" y="990720"/>
            <a:ext cx="1617840" cy="29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5bad"/>
                </a:solidFill>
                <a:latin typeface="Arial"/>
              </a:rPr>
              <a:t>Rainforest Biome Map</a:t>
            </a:r>
            <a:endParaRPr b="0" lang="en-US" sz="3600" spc="-1" strike="noStrike">
              <a:solidFill>
                <a:srgbClr val="ff5bad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1905120" y="1143000"/>
            <a:ext cx="6172200" cy="37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1509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5bad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ff5bad"/>
                </a:solidFill>
                <a:latin typeface="Arial"/>
              </a:rPr>
              <a:t>Review - </a:t>
            </a:r>
            <a:r>
              <a:rPr b="0" lang="en-US" sz="4000" spc="-1" strike="noStrike" u="sng">
                <a:solidFill>
                  <a:srgbClr val="ff5bad"/>
                </a:solidFill>
                <a:uFillTx/>
                <a:latin typeface="Arial"/>
              </a:rPr>
              <a:t>Ecosystem</a:t>
            </a:r>
            <a:endParaRPr b="0" lang="en-US" sz="4000" spc="-1" strike="noStrike">
              <a:solidFill>
                <a:srgbClr val="82979a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219320" y="1676520"/>
            <a:ext cx="79246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2979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2979a"/>
                </a:solidFill>
                <a:latin typeface="Arial"/>
              </a:rPr>
              <a:t>Group of living organisms that interact with one another and the nonliving physical environment as one unit</a:t>
            </a:r>
            <a:endParaRPr b="0" lang="en-US" sz="2800" spc="-1" strike="noStrike">
              <a:solidFill>
                <a:srgbClr val="82979a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609480" y="3270240"/>
            <a:ext cx="4114800" cy="3406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4800600" y="3324240"/>
            <a:ext cx="4114800" cy="33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5bad"/>
                </a:solidFill>
                <a:latin typeface="Arial"/>
              </a:rPr>
              <a:t>Grasslands – page 159-161</a:t>
            </a:r>
            <a:endParaRPr b="0" lang="en-US" sz="3600" spc="-1" strike="noStrike">
              <a:solidFill>
                <a:srgbClr val="ff5bad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752120" y="761760"/>
            <a:ext cx="723924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2979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2979a"/>
                </a:solidFill>
                <a:latin typeface="Arial"/>
              </a:rPr>
              <a:t>Less rainfall than forest regions, cannot support large vegetation</a:t>
            </a: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2979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2979a"/>
                </a:solidFill>
                <a:latin typeface="Arial"/>
              </a:rPr>
              <a:t>Predominant vegetation – GRASS</a:t>
            </a: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2979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2979a"/>
                </a:solidFill>
                <a:latin typeface="Arial"/>
              </a:rPr>
              <a:t>1/5 Earth’s surface; on all continents except _____________</a:t>
            </a: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2979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2979a"/>
                </a:solidFill>
                <a:latin typeface="Arial"/>
              </a:rPr>
              <a:t>Three major types of grasslands:</a:t>
            </a: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00"/>
              </a:spcBef>
              <a:buClr>
                <a:srgbClr val="82979a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2979a"/>
                </a:solidFill>
                <a:latin typeface="Arial"/>
              </a:rPr>
              <a:t>Tropical – savanna; warm all year with long dry season</a:t>
            </a:r>
            <a:endParaRPr b="1" lang="en-US" sz="2800" spc="-1" strike="noStrike">
              <a:solidFill>
                <a:srgbClr val="82979a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00"/>
              </a:spcBef>
              <a:buClr>
                <a:srgbClr val="82979a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2979a"/>
                </a:solidFill>
                <a:latin typeface="Arial"/>
              </a:rPr>
              <a:t>Temperate – prairie; very cold winters; hot, dry summer; fertile soil</a:t>
            </a:r>
            <a:endParaRPr b="1" lang="en-US" sz="2800" spc="-1" strike="noStrike">
              <a:solidFill>
                <a:srgbClr val="82979a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00"/>
              </a:spcBef>
              <a:buClr>
                <a:srgbClr val="82979a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2979a"/>
                </a:solidFill>
                <a:latin typeface="Arial"/>
              </a:rPr>
              <a:t>Polar (Tundra)</a:t>
            </a:r>
            <a:endParaRPr b="1" lang="en-US" sz="2800" spc="-1" strike="noStrike">
              <a:solidFill>
                <a:srgbClr val="82979a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0" y="4838760"/>
            <a:ext cx="312408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5bad"/>
                </a:solidFill>
                <a:latin typeface="Arial"/>
              </a:rPr>
              <a:t>The differing grasslands</a:t>
            </a:r>
            <a:endParaRPr b="0" lang="en-US" sz="4000" spc="-1" strike="noStrike">
              <a:solidFill>
                <a:srgbClr val="ff5bad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2133720" y="838080"/>
            <a:ext cx="6010200" cy="546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5bad"/>
                </a:solidFill>
                <a:latin typeface="Arial"/>
              </a:rPr>
              <a:t>Grassland Biome Map</a:t>
            </a:r>
            <a:endParaRPr b="0" lang="en-US" sz="3600" spc="-1" strike="noStrike">
              <a:solidFill>
                <a:srgbClr val="ff5bad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1828800" y="1066680"/>
            <a:ext cx="6394320" cy="38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5bad"/>
                </a:solidFill>
                <a:latin typeface="Arial"/>
              </a:rPr>
              <a:t>Temperate and tropical grassland</a:t>
            </a:r>
            <a:endParaRPr b="0" lang="en-US" sz="3600" spc="-1" strike="noStrike">
              <a:solidFill>
                <a:srgbClr val="ff5bad"/>
              </a:solidFill>
              <a:latin typeface="Arial"/>
            </a:endParaRPr>
          </a:p>
        </p:txBody>
      </p:sp>
      <p:pic>
        <p:nvPicPr>
          <p:cNvPr id="149" name="" descr="temperate_grassland_map.gif"/>
          <p:cNvPicPr/>
          <p:nvPr/>
        </p:nvPicPr>
        <p:blipFill>
          <a:blip r:embed="rId2"/>
          <a:stretch/>
        </p:blipFill>
        <p:spPr>
          <a:xfrm>
            <a:off x="1371600" y="914400"/>
            <a:ext cx="3733920" cy="230184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3809880" y="3287880"/>
            <a:ext cx="5010120" cy="297972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5105520" y="9144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2979a"/>
                </a:solidFill>
                <a:latin typeface="Arial"/>
              </a:rPr>
              <a:t>temperate</a:t>
            </a:r>
            <a:endParaRPr b="0" lang="en-US" sz="3200" spc="-1" strike="noStrike">
              <a:solidFill>
                <a:srgbClr val="82979a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286000" y="556272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2979a"/>
                </a:solidFill>
                <a:latin typeface="Arial"/>
              </a:rPr>
              <a:t>tropical</a:t>
            </a:r>
            <a:endParaRPr b="0" lang="en-US" sz="3200" spc="-1" strike="noStrike">
              <a:solidFill>
                <a:srgbClr val="82979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3276720" y="4648320"/>
            <a:ext cx="2381040" cy="200016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5bad"/>
                </a:solidFill>
                <a:latin typeface="Arial"/>
              </a:rPr>
              <a:t>Deserts – page 161</a:t>
            </a:r>
            <a:endParaRPr b="0" lang="en-US" sz="3600" spc="-1" strike="noStrike">
              <a:solidFill>
                <a:srgbClr val="ff5bad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752120" y="837720"/>
            <a:ext cx="723924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2979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2979a"/>
                </a:solidFill>
                <a:latin typeface="Arial"/>
              </a:rPr>
              <a:t>Dry area with less than 10 inches rain/year - ~30% Earth</a:t>
            </a: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979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2979a"/>
                </a:solidFill>
                <a:latin typeface="Arial"/>
              </a:rPr>
              <a:t>Hot deserts – in tropical regions; Sahara, Atacama S. America</a:t>
            </a: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979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2979a"/>
                </a:solidFill>
                <a:latin typeface="Arial"/>
              </a:rPr>
              <a:t>Cold deserts – Gobi in China</a:t>
            </a: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979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2979a"/>
                </a:solidFill>
                <a:latin typeface="Arial"/>
              </a:rPr>
              <a:t>Temperate deserts – Mojave</a:t>
            </a: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5562720" y="4343400"/>
            <a:ext cx="3419280" cy="22795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152280" y="4495680"/>
            <a:ext cx="3276720" cy="21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5bad"/>
                </a:solidFill>
                <a:latin typeface="Arial"/>
              </a:rPr>
              <a:t>Desert Biome Map</a:t>
            </a:r>
            <a:endParaRPr b="0" lang="en-US" sz="3600" spc="-1" strike="noStrike">
              <a:solidFill>
                <a:srgbClr val="ff5bad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1828800" y="990720"/>
            <a:ext cx="6622920" cy="40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5bad"/>
                </a:solidFill>
                <a:latin typeface="Arial"/>
              </a:rPr>
              <a:t>Changing Mountain Biomes</a:t>
            </a:r>
            <a:endParaRPr b="0" lang="en-US" sz="4000" spc="-1" strike="noStrike">
              <a:solidFill>
                <a:srgbClr val="ff5bad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1828800" y="947880"/>
            <a:ext cx="6705720" cy="52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-360" y="-47160"/>
            <a:ext cx="7467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5bad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752120" y="837720"/>
            <a:ext cx="723924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2979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2979a"/>
                </a:solidFill>
                <a:latin typeface="Arial"/>
              </a:rPr>
              <a:t>Temperature drops with increase in altitude (elevation)</a:t>
            </a: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979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2979a"/>
                </a:solidFill>
                <a:latin typeface="Arial"/>
              </a:rPr>
              <a:t>Precipitation in mts. – depends on side of mountain (windward vs. leeward)</a:t>
            </a: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4267080" y="3048120"/>
            <a:ext cx="4257720" cy="36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5bad"/>
                </a:solidFill>
                <a:latin typeface="Arial"/>
              </a:rPr>
              <a:t>Aquatic Biomes</a:t>
            </a:r>
            <a:endParaRPr b="0" lang="en-US" sz="3600" spc="-1" strike="noStrike">
              <a:solidFill>
                <a:srgbClr val="ff5ba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209320" y="2514600"/>
            <a:ext cx="4876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2979a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82979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2979a"/>
                </a:solidFill>
                <a:latin typeface="Arial"/>
              </a:rPr>
              <a:t>Marine (salt water) Biomes – coral reefs, estuaries, oceans</a:t>
            </a: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2133720" y="914040"/>
            <a:ext cx="6705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spcBef>
                <a:spcPts val="799"/>
              </a:spcBef>
              <a:buClr>
                <a:srgbClr val="82979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2979a"/>
                </a:solidFill>
                <a:latin typeface="Arial"/>
              </a:rPr>
              <a:t>Freshwater Biomes – ponds, lakes, river, streams, wetlands</a:t>
            </a: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7010280" y="2514600"/>
            <a:ext cx="1947960" cy="41338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152280" y="762120"/>
            <a:ext cx="1947960" cy="41338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4"/>
          <a:stretch/>
        </p:blipFill>
        <p:spPr>
          <a:xfrm>
            <a:off x="3200400" y="426708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5bad"/>
                </a:solidFill>
                <a:latin typeface="Arial"/>
              </a:rPr>
              <a:t>Estuary</a:t>
            </a:r>
            <a:endParaRPr b="0" lang="en-US" sz="4000" spc="-1" strike="noStrike">
              <a:solidFill>
                <a:srgbClr val="ff5bad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52120" y="837720"/>
            <a:ext cx="723924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2979a"/>
                </a:solidFill>
                <a:latin typeface="Arial"/>
              </a:rPr>
              <a:t>Where the river meets the sea</a:t>
            </a: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pic>
        <p:nvPicPr>
          <p:cNvPr id="173" name="" descr="Map of the United States and Puerto Rico with locations marked for each of the 28 National Estuary Programs, their study areas, and surrounding watersheds"/>
          <p:cNvPicPr/>
          <p:nvPr/>
        </p:nvPicPr>
        <p:blipFill>
          <a:blip r:embed="rId2"/>
          <a:stretch/>
        </p:blipFill>
        <p:spPr>
          <a:xfrm>
            <a:off x="1600200" y="1600200"/>
            <a:ext cx="7400880" cy="37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5bad"/>
                </a:solidFill>
                <a:uFillTx/>
                <a:latin typeface="Arial"/>
              </a:rPr>
              <a:t>Biome</a:t>
            </a:r>
            <a:endParaRPr b="0" lang="en-US" sz="3600" spc="-1" strike="noStrike">
              <a:solidFill>
                <a:srgbClr val="ff5bad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752120" y="837720"/>
            <a:ext cx="723924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2979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2979a"/>
                </a:solidFill>
                <a:latin typeface="Arial"/>
              </a:rPr>
              <a:t>Geographic region of Earth that is inhabited by a community of distinct types of plant and animal species</a:t>
            </a: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979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2979a"/>
                </a:solidFill>
                <a:latin typeface="Arial"/>
              </a:rPr>
              <a:t>Largely defined by </a:t>
            </a:r>
            <a:r>
              <a:rPr b="1" lang="en-US" sz="3200" spc="-1" strike="noStrike" u="sng">
                <a:solidFill>
                  <a:srgbClr val="82979a"/>
                </a:solidFill>
                <a:uFillTx/>
                <a:latin typeface="Arial"/>
              </a:rPr>
              <a:t>climate</a:t>
            </a:r>
            <a:r>
              <a:rPr b="1" lang="en-US" sz="3200" spc="-1" strike="noStrike">
                <a:solidFill>
                  <a:srgbClr val="82979a"/>
                </a:solidFill>
                <a:latin typeface="Arial"/>
              </a:rPr>
              <a:t> and soil</a:t>
            </a: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886200" y="3581280"/>
            <a:ext cx="25462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2190600" y="1523880"/>
            <a:ext cx="47628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5bad"/>
                </a:solidFill>
                <a:uFillTx/>
                <a:latin typeface="Arial"/>
              </a:rPr>
              <a:t>Climate</a:t>
            </a:r>
            <a:endParaRPr b="0" lang="en-US" sz="3600" spc="-1" strike="noStrike">
              <a:solidFill>
                <a:srgbClr val="ff5bad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752120" y="837720"/>
            <a:ext cx="723924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82979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2979a"/>
                </a:solidFill>
                <a:latin typeface="Arial"/>
              </a:rPr>
              <a:t>Defined by the average precipitation and temperature</a:t>
            </a: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82979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82979a"/>
                </a:solidFill>
                <a:uFillTx/>
                <a:latin typeface="Arial"/>
              </a:rPr>
              <a:t>Precipitation</a:t>
            </a:r>
            <a:r>
              <a:rPr b="1" lang="en-US" sz="2800" spc="-1" strike="noStrike">
                <a:solidFill>
                  <a:srgbClr val="82979a"/>
                </a:solidFill>
                <a:latin typeface="Arial"/>
              </a:rPr>
              <a:t> – all forms of moisture that fall to Earth from atmosphere</a:t>
            </a:r>
            <a:endParaRPr b="1" lang="en-US" sz="2800" spc="-1" strike="noStrike">
              <a:solidFill>
                <a:srgbClr val="82979a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82979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82979a"/>
                </a:solidFill>
                <a:uFillTx/>
                <a:latin typeface="Arial"/>
              </a:rPr>
              <a:t>Temperature</a:t>
            </a:r>
            <a:r>
              <a:rPr b="1" lang="en-US" sz="2800" spc="-1" strike="noStrike">
                <a:solidFill>
                  <a:srgbClr val="82979a"/>
                </a:solidFill>
                <a:latin typeface="Arial"/>
              </a:rPr>
              <a:t> – how warm or cool the surrounding air is</a:t>
            </a:r>
            <a:endParaRPr b="1" lang="en-US" sz="2800" spc="-1" strike="noStrike">
              <a:solidFill>
                <a:srgbClr val="82979a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2979a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2979a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2979a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2979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82979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2979a"/>
                </a:solidFill>
                <a:latin typeface="Arial"/>
              </a:rPr>
              <a:t>Determined by latitude and altitude</a:t>
            </a: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52280" y="2057400"/>
            <a:ext cx="2057400" cy="2743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5791320" y="3200400"/>
            <a:ext cx="2206440" cy="22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4678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5bad"/>
                </a:solidFill>
                <a:latin typeface="Arial"/>
              </a:rPr>
              <a:t>Impact of Temperature and Precipitation on Biomes</a:t>
            </a:r>
            <a:endParaRPr b="0" lang="en-US" sz="4000" spc="-1" strike="noStrike">
              <a:solidFill>
                <a:srgbClr val="ff5bad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2057400" y="1371600"/>
            <a:ext cx="5410080" cy="530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5bad"/>
                </a:solidFill>
                <a:uFillTx/>
                <a:latin typeface="Arial"/>
              </a:rPr>
              <a:t>Latitude</a:t>
            </a:r>
            <a:endParaRPr b="0" lang="en-US" sz="4000" spc="-1" strike="noStrike">
              <a:solidFill>
                <a:srgbClr val="ff5bad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52120" y="837720"/>
            <a:ext cx="723924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2979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2979a"/>
                </a:solidFill>
                <a:latin typeface="Arial"/>
              </a:rPr>
              <a:t>distance north or south of equator</a:t>
            </a: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828800" y="1676520"/>
            <a:ext cx="7086600" cy="35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5bad"/>
                </a:solidFill>
                <a:uFillTx/>
                <a:latin typeface="Arial"/>
              </a:rPr>
              <a:t>Altitude</a:t>
            </a:r>
            <a:endParaRPr b="0" lang="en-US" sz="3600" spc="-1" strike="noStrike">
              <a:solidFill>
                <a:srgbClr val="ff5bad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752120" y="837720"/>
            <a:ext cx="723924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2979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2979a"/>
                </a:solidFill>
                <a:latin typeface="Arial"/>
              </a:rPr>
              <a:t>height above sea level</a:t>
            </a: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828800" y="1606680"/>
            <a:ext cx="7010280" cy="52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6324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5bad"/>
                </a:solidFill>
                <a:latin typeface="Arial"/>
              </a:rPr>
              <a:t>Impact of Latitude and </a:t>
            </a:r>
            <a:br>
              <a:rPr sz="3600"/>
            </a:br>
            <a:r>
              <a:rPr b="0" lang="en-US" sz="3600" spc="-1" strike="noStrike">
                <a:solidFill>
                  <a:srgbClr val="ff5bad"/>
                </a:solidFill>
                <a:latin typeface="Arial"/>
              </a:rPr>
              <a:t>Altitude on Biomes</a:t>
            </a:r>
            <a:endParaRPr b="0" lang="en-US" sz="3600" spc="-1" strike="noStrike">
              <a:solidFill>
                <a:srgbClr val="ff5bad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828800" y="1295280"/>
            <a:ext cx="6705720" cy="520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5bad"/>
                </a:solidFill>
                <a:latin typeface="Arial"/>
              </a:rPr>
              <a:t>Notes about biomes</a:t>
            </a:r>
            <a:endParaRPr b="0" lang="en-US" sz="3600" spc="-1" strike="noStrike">
              <a:solidFill>
                <a:srgbClr val="ff5bad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752120" y="837720"/>
            <a:ext cx="723924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2979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2979a"/>
                </a:solidFill>
                <a:latin typeface="Arial"/>
              </a:rPr>
              <a:t>Contain many ecosystems</a:t>
            </a: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979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2979a"/>
                </a:solidFill>
                <a:latin typeface="Arial"/>
              </a:rPr>
              <a:t>Organisms in a biome are ADAPTED to the environmental conditions</a:t>
            </a: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979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2979a"/>
                </a:solidFill>
                <a:latin typeface="Arial"/>
              </a:rPr>
              <a:t>Same biome occurs in several places on Earth</a:t>
            </a: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979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2979a"/>
                </a:solidFill>
                <a:latin typeface="Arial"/>
              </a:rPr>
              <a:t>There are both aquatic and land biomes</a:t>
            </a: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238880" y="4724280"/>
            <a:ext cx="174312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4T20:54:27Z</dcterms:created>
  <dc:creator> </dc:creator>
  <dc:description/>
  <dc:language>en-US</dc:language>
  <cp:lastModifiedBy>lvangorden</cp:lastModifiedBy>
  <dcterms:modified xsi:type="dcterms:W3CDTF">2008-02-28T14:26:16Z</dcterms:modified>
  <cp:revision>14</cp:revision>
  <dc:subject/>
  <dc:title>Biom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900201033</vt:lpwstr>
  </property>
</Properties>
</file>